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6926-FBE0-49C3-A079-EB3C1E2C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7F81-D551-4B44-8551-76068528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E055-8FFD-498E-B364-DA38CB28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4FB1-03C0-4CFA-8C4B-F70F9EB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A4E9-47B9-4929-9183-5680DF5D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28F5-740D-42BF-9424-3320E59F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188A-A2F5-46DD-AD98-8B5AAC62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63C9-19DB-498F-8F33-D94639D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6D55-4CFD-48AE-9FA9-41AF428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4D7F-02E5-4915-9B8D-D47A6AD0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C26D-20ED-481E-9315-5D6C9E0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61D2-5EF4-49CC-A76D-48DFECBF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52E7-BD46-4B08-9026-D2D360F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7C1-6556-459D-8478-504B18F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40D7-4242-4BEB-A121-C0CE8BB2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B9AC-BFE6-4756-A54F-9ADDB62C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1CCF-5D34-4B0E-8716-665088EB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C0EF-96A7-422C-ACF2-DCA322CA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FFAF-1B09-48FF-80B1-91260A0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735A-2D08-42D8-861D-713D22B0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5D29-F2DF-4061-8B6B-CB76ED26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34D7-3AC1-4CAC-A7CB-78D41BC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1017-E2AA-4F9C-A61F-D3500F71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3138-D259-4ECA-BF27-9716738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1159-4B06-413B-8F98-F4A0C79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C367-DEAE-4D4F-823F-B9C79A5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5043-0036-44E4-AEE4-E1F6F321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7392-3970-4BAF-B5D9-40348BD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D0BC-C6F3-4E45-83B4-4AC80DED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8DEB-BF56-4CD4-8616-89026D8E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05C6-782C-42B3-9011-8EF3EA56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F09A-E811-4527-B909-CC1E778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715F-11C3-48E3-8C30-12AC7E87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EDA1-46BE-42BC-B3D4-9BCFD36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8C03-171D-4431-A3BC-EC4A14D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FC16-6723-4324-B456-652512D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8D9F-CF3B-467F-8AF9-D04B9ADA94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D19-9936-470E-BDD7-51F397B20B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9B63-092D-4681-9DE4-C23D3F5411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VOLUTION OF AGRICULTURAL AND FOOD MARKETS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alter J. Armbruster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nald D. Knuts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marketing policies and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f agricultural and food products takes place within the framework of a set of federal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olicies and programs influence the production and terms of trade throughout the agriculture and food marketing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markets evolve, policies and programs need to adj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and Food Market Ev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markets to centr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marketing to forward pricing and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ism to reg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to value-chain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ical efficiency exists when production occurs at minimum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cative efficiency involves the allocation of scarce resources among products, production activities, and uses to maximize welf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amic efficiency measures how well markets innovate to adjust/adapt to change over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ributive justice, or redistribution of wealth and economic benefits generated by the private sect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lues driven by various interest group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it goods such as food safety, nutrition and heal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16:28:18Z</dcterms:modified>
  <cp:revision>63</cp:revision>
  <dc:subject/>
  <dc:title>U.S. Policies Affecting Food and Agricultural Marketing</dc:title>
</cp:coreProperties>
</file>